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7166B-4E55-4D89-83FE-DFFDF8EF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E06B-E3BE-4C22-8132-9EF51800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0EC76-EB7A-42B8-837C-2C45FCD8E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A5B7A-BF99-4D45-A63F-ADE2A56EA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13CC3-7C14-470C-A3DD-CC908EA4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78B0-7F67-4157-8598-B01CFBC61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33EEE-4C98-4DA9-80FF-2A4895F4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F4A3-6FF8-48BC-951C-EE2CF8625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94B4-8F67-4209-A50F-646D19FF5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1BAA-215C-4E49-98D5-473564D12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842D-7406-482C-ABC5-F1BAC4D5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6ED1-EA5C-4434-9BDF-09ED7A133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1DFC-6026-4715-91C0-1D10C1455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Orlick’s reason for seeking revenge on Pip?</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Orlick goes after escaping from Herbert and his group?</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Mrs. Joe die from her first injury, being whacked by Orlick, or did he go back a second time and kill her?</a:t>
            </a:r>
            <a:endParaRPr b="0" lang="en-US" sz="20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p, Herbert, and Startop made there way to Clara’s house on the Thames river to retrieve Magwitch to help him escape. Pip and Magwitch plan to get on another boat, but while on their way, another rowboat shows up with Compeyson in it. Magwitch and Compeyson jump into the water and attack each other and only Magwitch resurfaces. He is chained up and led away to prison.</a:t>
            </a:r>
            <a:endParaRPr b="0" lang="en-US" sz="20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4419720" y="2057400"/>
            <a:ext cx="4267080" cy="355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 MTSD</cp:lastModifiedBy>
  <dcterms:modified xsi:type="dcterms:W3CDTF">2009-03-02T19:20:03Z</dcterms:modified>
  <cp:revision>7</cp:revision>
  <dc:subject/>
  <dc:title>Great Expectations Chapters 53-54</dc:title>
</cp:coreProperties>
</file>